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4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image6.png" ContentType="image/png"/>
  <Override PartName="/ppt/media/image10.wmf" ContentType="image/x-wmf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9998-F8F4-435B-84CC-6341DA726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85EE-588F-4F90-AB7D-FC3B63945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9B09-9313-495D-973A-166BE1E4F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Note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oftware programs will allow animations to be exported as SWF files even if you do not have the Adobe Flash software installed on your compu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9684-27EF-458D-9F77-D8FE09EFB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0547-106C-4B3C-A421-24D21751A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No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ile type is used that requires a specific player, a link should be included on the page to a website where the player or plug-in can be downloaded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0AB7-F1EF-4AD7-B148-AA82B3D93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Note: Different types of connections (56K modem, DSL, etc.) can carry different amounts of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7552-921A-4DE9-8575-C8E5EA02D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Note:  The terms movie and video are being used to refer to the ani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that can result in larger file siz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movement in an animation affects file size.  More movement = larger file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objects in a scene affects file size.  More objects = larger file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 depth affects file size. More colors used = larger file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ames per second contained in the animation affects file size. Higher FPS = longer animations and larger file siz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3060-68D7-4B29-8B5C-27D82F119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0E48-A064-418C-BD35-6681FEFC2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F2955-C01C-44AB-85F8-0F1998B41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2AD83-A747-47E5-B4E1-618D4911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483BD-395D-4106-851E-C4604CE98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03388-84FF-40D4-90C6-0557DD484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F47C-EDE7-4EA3-A4D9-DA999A6D2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D64B-9FE6-46F5-9BFE-94A0EA3D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A92C-C043-4EEB-8671-A5D8F80C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5ACD-7D83-4A7A-8FB1-2E1D3E6E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37EA7-8E3C-4A0D-9DC7-0C4F7E67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03FB-2C84-4104-8ECF-93AD7C75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0DA43-D97F-4DD7-956C-379A4781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65489-677B-4424-A7C9-8AD7CEDD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A590-C75C-4E79-B17C-17C2339C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6AB45-FB2A-48FC-BF75-90AC25C1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E0E2-EB91-4631-AA28-7DABC8EA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7367-7573-4057-8A15-95448491A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39E1-2ADA-4E6D-BF17-BB5D3FD68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1A524-DB7D-4092-8B07-97178899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1233B-D404-4C41-9E47-24827AA3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1E127-5EB3-45F7-A647-CFD31ED4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0E33F-FD0F-4182-B850-AC5F0C15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5B2D2-A032-4B90-A679-1CBB8A18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E704B-8C81-4BB1-B637-02BD6AAC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AC795-8E85-406D-BDB4-5AED42DE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2617-244A-4AD5-9098-C0DDC67C94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4CF9-AFA4-4610-84A9-A596D46BE0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362320" y="2057040"/>
            <a:ext cx="67816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2.02G Publishing Animated Vide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752480" y="43434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02 Develop Computer Anim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6699"/>
                </a:solidFill>
                <a:latin typeface="Arial"/>
              </a:rPr>
              <a:t>Animation File 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e QuickTime Movie (M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les can be either downloaded or stream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n on many different operating syste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be viewed in the QuickTime player which is a free downloa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ing Pictures Expert Group (MPE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very compressed video forma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les tend to be much smaller and better quality than other forma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mmended for videos that will be downloaded instead of streamed because it does not require a specific player or plug-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6699"/>
                </a:solidFill>
                <a:latin typeface="Arial"/>
              </a:rPr>
              <a:t>Animation File 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ckwave Flash (SW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nounced “swiff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le format for animation created with Adobe Flas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les can contain text as well as both vector and raster graphics; also may include interactive actions written in ActionScrip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be viewed in the Adobe Flash Player which is a free downloa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pular format for the Web becaus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size is sm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stream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ffffff"/>
                </a:solidFill>
                <a:latin typeface="Arial"/>
              </a:rPr>
              <a:t>Step 3: Choose a Delivery Metho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99"/>
                </a:solidFill>
                <a:latin typeface="Arial"/>
              </a:rPr>
              <a:t>Delivery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-404640">
              <a:spcBef>
                <a:spcPts val="876"/>
              </a:spcBef>
              <a:spcAft>
                <a:spcPts val="876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videos have been analyzed and optimized to perform best in the intended medium, the next step is to publ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876"/>
              </a:spcBef>
              <a:spcAft>
                <a:spcPts val="876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very methods available for distributing anim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0320" indent="-349200">
              <a:spcBef>
                <a:spcPts val="751"/>
              </a:spcBef>
              <a:spcAft>
                <a:spcPts val="751"/>
              </a:spcAft>
              <a:buClr>
                <a:srgbClr val="9999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part of a Web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0320" indent="-349200">
              <a:spcBef>
                <a:spcPts val="751"/>
              </a:spcBef>
              <a:spcAft>
                <a:spcPts val="751"/>
              </a:spcAft>
              <a:buClr>
                <a:srgbClr val="9999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 CD-ROM or DV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0320" indent="-349200">
              <a:spcBef>
                <a:spcPts val="751"/>
              </a:spcBef>
              <a:spcAft>
                <a:spcPts val="751"/>
              </a:spcAft>
              <a:buClr>
                <a:srgbClr val="9999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n executable file which bundles both the animation and the program to play in a single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4" descr="MC900360628[1]"/>
          <p:cNvPicPr/>
          <p:nvPr/>
        </p:nvPicPr>
        <p:blipFill>
          <a:blip r:embed="rId1"/>
          <a:stretch/>
        </p:blipFill>
        <p:spPr>
          <a:xfrm>
            <a:off x="5943600" y="4267080"/>
            <a:ext cx="243828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761760" y="160020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n animation or an executable file is distributed over the Internet, the entire file must be downloaded before the animation can pl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tions distributed as part of a web page can be ei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wnloa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singleAxisTime"/>
          <p:cNvPicPr/>
          <p:nvPr/>
        </p:nvPicPr>
        <p:blipFill>
          <a:blip r:embed="rId1"/>
          <a:stretch/>
        </p:blipFill>
        <p:spPr>
          <a:xfrm>
            <a:off x="5638680" y="1752480"/>
            <a:ext cx="3267360" cy="34736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5440" y="5335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99"/>
                </a:solidFill>
                <a:latin typeface="Arial"/>
              </a:rPr>
              <a:t>Delivery Methods 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6699"/>
                </a:solidFill>
                <a:latin typeface="Arial"/>
              </a:rPr>
              <a:t>Strea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technique for transferring audio and video files over the Internet as a continuous stream of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reaming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8584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is held in a temporary storage area called a buffer until it is played by the compu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8584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will always be an initial delay while the first frame is buffe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an animation plays at 5 frames per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8584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frame will play for 0.2 secon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the first frame takes 0.3 seconds to download, the animation cannot start playing until after that time has elaps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6699"/>
                </a:solidFill>
                <a:latin typeface="Arial"/>
              </a:rPr>
              <a:t>Advantages and Disadvantages of Strea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ick Access - files can start playing as soon as a computer begins receiving the data rather than waiting for the complete file to download before play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is discarded as it is played so a complete copy of the file is not stored on the viewer’s compu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viewer must be connected to the Internet to view the vide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viewer’s connection speed influences the quality of playbac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les cannot be saved and viewed la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99"/>
                </a:solidFill>
                <a:latin typeface="Arial"/>
              </a:rPr>
              <a:t>Plug-ins and Play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5029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g-ins or players may be required to view an animation over the Intern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lug-in is a program that works with the browser to expand its capabil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8880">
              <a:spcBef>
                <a:spcPts val="601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304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it to play video or audio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304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it to open certain file typ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standalone"/>
          <p:cNvPicPr/>
          <p:nvPr/>
        </p:nvPicPr>
        <p:blipFill>
          <a:blip r:embed="rId1"/>
          <a:stretch/>
        </p:blipFill>
        <p:spPr>
          <a:xfrm>
            <a:off x="5562720" y="2133720"/>
            <a:ext cx="27432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99"/>
                </a:solidFill>
                <a:latin typeface="Arial"/>
              </a:rPr>
              <a:t>Plug-ins and Play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-404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ndalone play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separate program that can play video and audio files without the browser software being op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3524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obe Flash P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3524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3524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P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3524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 Media P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7"/>
          <p:cNvGrpSpPr/>
          <p:nvPr/>
        </p:nvGrpSpPr>
        <p:grpSpPr>
          <a:xfrm>
            <a:off x="6019920" y="4952880"/>
            <a:ext cx="2057400" cy="990720"/>
            <a:chOff x="6019920" y="4952880"/>
            <a:chExt cx="2057400" cy="990720"/>
          </a:xfrm>
        </p:grpSpPr>
        <p:pic>
          <p:nvPicPr>
            <p:cNvPr id="153" name="Picture 4" descr="flash_rune"/>
            <p:cNvPicPr/>
            <p:nvPr/>
          </p:nvPicPr>
          <p:blipFill>
            <a:blip r:embed="rId1"/>
            <a:stretch/>
          </p:blipFill>
          <p:spPr>
            <a:xfrm>
              <a:off x="6019920" y="4952880"/>
              <a:ext cx="79560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5" descr="flash install"/>
            <p:cNvPicPr/>
            <p:nvPr/>
          </p:nvPicPr>
          <p:blipFill>
            <a:blip r:embed="rId2"/>
            <a:stretch/>
          </p:blipFill>
          <p:spPr>
            <a:xfrm>
              <a:off x="6842880" y="5481000"/>
              <a:ext cx="1234440" cy="283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5" name="Picture 8" descr="quicktime%20logo"/>
          <p:cNvPicPr/>
          <p:nvPr/>
        </p:nvPicPr>
        <p:blipFill>
          <a:blip r:embed="rId3"/>
          <a:stretch/>
        </p:blipFill>
        <p:spPr>
          <a:xfrm>
            <a:off x="7086600" y="3962520"/>
            <a:ext cx="9144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Step 4: Publish the Animatio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6699"/>
                </a:solidFill>
                <a:latin typeface="Arial"/>
              </a:rPr>
              <a:t>Publishing Animated Vid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shing animations and animated videos involves the following ste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 and optimize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an appropriate file ty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the delivery met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sh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MPj03415250000[1]"/>
          <p:cNvPicPr/>
          <p:nvPr/>
        </p:nvPicPr>
        <p:blipFill>
          <a:blip r:embed="rId1"/>
          <a:stretch/>
        </p:blipFill>
        <p:spPr>
          <a:xfrm>
            <a:off x="6477120" y="3962520"/>
            <a:ext cx="2076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sh the An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nimations distributed over the Intern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load the file to the host compu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link to the file or embed it into the web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the animation in different brows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nimations distributed on CDs or DV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n the file onto the di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ize the di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the disk in several differ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 or DVD play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j0252147"/>
          <p:cNvPicPr/>
          <p:nvPr/>
        </p:nvPicPr>
        <p:blipFill>
          <a:blip r:embed="rId1"/>
          <a:stretch/>
        </p:blipFill>
        <p:spPr>
          <a:xfrm>
            <a:off x="6477120" y="4800600"/>
            <a:ext cx="180324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24080" y="1828800"/>
            <a:ext cx="55627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Factors that Influence 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he Delivery of 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Computer Anim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666699"/>
                </a:solidFill>
                <a:latin typeface="Arial"/>
              </a:rPr>
              <a:t>Factors that influence the delivery of computer animations:</a:t>
            </a:r>
            <a:br>
              <a:rPr sz="40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2408400"/>
            <a:ext cx="69339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er’s bandwidth, or connection sp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aming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back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4"/>
          <p:cNvGrpSpPr/>
          <p:nvPr/>
        </p:nvGrpSpPr>
        <p:grpSpPr>
          <a:xfrm>
            <a:off x="2438280" y="3581280"/>
            <a:ext cx="6400800" cy="2745720"/>
            <a:chOff x="2438280" y="3581280"/>
            <a:chExt cx="6400800" cy="2745720"/>
          </a:xfrm>
        </p:grpSpPr>
        <p:grpSp>
          <p:nvGrpSpPr>
            <p:cNvPr id="164" name="Group 6"/>
            <p:cNvGrpSpPr/>
            <p:nvPr/>
          </p:nvGrpSpPr>
          <p:grpSpPr>
            <a:xfrm>
              <a:off x="4876920" y="3581280"/>
              <a:ext cx="2590200" cy="1904760"/>
              <a:chOff x="4876920" y="3581280"/>
              <a:chExt cx="2590200" cy="1904760"/>
            </a:xfrm>
          </p:grpSpPr>
          <p:pic>
            <p:nvPicPr>
              <p:cNvPr id="165" name="Picture 4" descr="Bandwidth02"/>
              <p:cNvPicPr/>
              <p:nvPr/>
            </p:nvPicPr>
            <p:blipFill>
              <a:blip r:embed="rId1"/>
              <a:stretch/>
            </p:blipFill>
            <p:spPr>
              <a:xfrm>
                <a:off x="4876920" y="3581280"/>
                <a:ext cx="2552400" cy="188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Rectangle 5"/>
              <p:cNvSpPr/>
              <p:nvPr/>
            </p:nvSpPr>
            <p:spPr>
              <a:xfrm>
                <a:off x="5790960" y="5181480"/>
                <a:ext cx="1676160" cy="30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Text Box 7"/>
            <p:cNvSpPr/>
            <p:nvPr/>
          </p:nvSpPr>
          <p:spPr>
            <a:xfrm>
              <a:off x="7543800" y="4267080"/>
              <a:ext cx="129528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Internet (water is the data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8"/>
            <p:cNvSpPr/>
            <p:nvPr/>
          </p:nvSpPr>
          <p:spPr>
            <a:xfrm>
              <a:off x="7162920" y="457200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9"/>
            <p:cNvSpPr/>
            <p:nvPr/>
          </p:nvSpPr>
          <p:spPr>
            <a:xfrm>
              <a:off x="2438280" y="5410080"/>
              <a:ext cx="2971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nection Type determines how much data can transfer to the network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0"/>
            <p:cNvSpPr/>
            <p:nvPr/>
          </p:nvSpPr>
          <p:spPr>
            <a:xfrm flipV="1">
              <a:off x="4495680" y="5333760"/>
              <a:ext cx="914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99"/>
                </a:solidFill>
                <a:latin typeface="Arial"/>
              </a:rPr>
              <a:t>Bandwid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16"/>
          <p:cNvGrpSpPr/>
          <p:nvPr/>
        </p:nvGrpSpPr>
        <p:grpSpPr>
          <a:xfrm>
            <a:off x="3809880" y="1600200"/>
            <a:ext cx="5334120" cy="4876920"/>
            <a:chOff x="3809880" y="1600200"/>
            <a:chExt cx="5334120" cy="4876920"/>
          </a:xfrm>
        </p:grpSpPr>
        <p:grpSp>
          <p:nvGrpSpPr>
            <p:cNvPr id="173" name="Group 15"/>
            <p:cNvGrpSpPr/>
            <p:nvPr/>
          </p:nvGrpSpPr>
          <p:grpSpPr>
            <a:xfrm>
              <a:off x="3809880" y="1600200"/>
              <a:ext cx="5334120" cy="4876920"/>
              <a:chOff x="3809880" y="1600200"/>
              <a:chExt cx="5334120" cy="4876920"/>
            </a:xfrm>
          </p:grpSpPr>
          <p:grpSp>
            <p:nvGrpSpPr>
              <p:cNvPr id="174" name="Group 14"/>
              <p:cNvGrpSpPr/>
              <p:nvPr/>
            </p:nvGrpSpPr>
            <p:grpSpPr>
              <a:xfrm>
                <a:off x="3809880" y="1600200"/>
                <a:ext cx="5334120" cy="4876920"/>
                <a:chOff x="3809880" y="1600200"/>
                <a:chExt cx="5334120" cy="4876920"/>
              </a:xfrm>
            </p:grpSpPr>
            <p:pic>
              <p:nvPicPr>
                <p:cNvPr id="175" name="Picture 4" descr="Bandwidth01"/>
                <p:cNvPicPr/>
                <p:nvPr/>
              </p:nvPicPr>
              <p:blipFill>
                <a:blip r:embed="rId1"/>
                <a:srcRect l="0" t="0" r="15795" b="-1225"/>
                <a:stretch/>
              </p:blipFill>
              <p:spPr>
                <a:xfrm>
                  <a:off x="3809880" y="1600200"/>
                  <a:ext cx="5334120" cy="487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" name="Rectangle 5"/>
                <p:cNvSpPr/>
                <p:nvPr/>
              </p:nvSpPr>
              <p:spPr>
                <a:xfrm>
                  <a:off x="4476240" y="3935520"/>
                  <a:ext cx="1666800" cy="417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" name="Rectangle 8"/>
              <p:cNvSpPr/>
              <p:nvPr/>
            </p:nvSpPr>
            <p:spPr>
              <a:xfrm>
                <a:off x="5009760" y="5537880"/>
                <a:ext cx="1000080" cy="348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13"/>
            <p:cNvGrpSpPr/>
            <p:nvPr/>
          </p:nvGrpSpPr>
          <p:grpSpPr>
            <a:xfrm>
              <a:off x="4952880" y="4114800"/>
              <a:ext cx="1587600" cy="977760"/>
              <a:chOff x="4952880" y="4114800"/>
              <a:chExt cx="1587600" cy="977760"/>
            </a:xfrm>
          </p:grpSpPr>
          <p:sp>
            <p:nvSpPr>
              <p:cNvPr id="179" name="Text Box 7"/>
              <p:cNvSpPr/>
              <p:nvPr/>
            </p:nvSpPr>
            <p:spPr>
              <a:xfrm>
                <a:off x="5410080" y="411480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10"/>
              <p:cNvSpPr/>
              <p:nvPr/>
            </p:nvSpPr>
            <p:spPr>
              <a:xfrm flipH="1">
                <a:off x="4952880" y="429264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11"/>
              <p:cNvSpPr/>
              <p:nvPr/>
            </p:nvSpPr>
            <p:spPr>
              <a:xfrm flipH="1">
                <a:off x="6083280" y="430524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Text Box 12"/>
              <p:cNvSpPr/>
              <p:nvPr/>
            </p:nvSpPr>
            <p:spPr>
              <a:xfrm>
                <a:off x="5105160" y="4724280"/>
                <a:ext cx="137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andwidt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6440" indent="-40644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 of data that can be transmitted ov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etwork in a given amount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peed at which data travels over a network depend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spcBef>
                <a:spcPts val="550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ype of Internet connection for th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two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spcBef>
                <a:spcPts val="550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umber of users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ing the network a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specific ti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6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99"/>
                </a:solidFill>
                <a:latin typeface="Arial"/>
              </a:rPr>
              <a:t>Streaming and Playback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aming r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 the rate in frames per second at which videos can be downloaded or transferred to a computer and is determin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iewer’s network connection sp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tent of the video file being downloa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yback r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rate in frames per second at which the video pl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lot of people are using the network at one time, less bandwidth will be available to download the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ill cause the streaming rate to be slo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eans the playback rate will most likely be slower than the streaming 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ill cause the playback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use until more data 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6699"/>
                </a:solidFill>
                <a:latin typeface="Arial"/>
              </a:rPr>
              <a:t>Bandwidth and Streaming Rate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9" descr="j0286755"/>
          <p:cNvPicPr/>
          <p:nvPr/>
        </p:nvPicPr>
        <p:blipFill>
          <a:blip r:embed="rId1"/>
          <a:stretch/>
        </p:blipFill>
        <p:spPr>
          <a:xfrm>
            <a:off x="6400800" y="4191120"/>
            <a:ext cx="1981080" cy="18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6699"/>
                </a:solidFill>
                <a:latin typeface="Arial"/>
              </a:rPr>
              <a:t>Bandwidth and Streaming Rate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streaming rate is slower than the playback rate, the video will pause until more data is recei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 good idea to provide the video in different file sizes so viewers can choose the file size best suited for their connection ty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images"/>
          <p:cNvPicPr/>
          <p:nvPr/>
        </p:nvPicPr>
        <p:blipFill>
          <a:blip r:embed="rId1"/>
          <a:stretch/>
        </p:blipFill>
        <p:spPr>
          <a:xfrm>
            <a:off x="5410080" y="5334120"/>
            <a:ext cx="289584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shing Animated Vide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 and optimize the ani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672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and optimize the ani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672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an appropriate file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672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the delivery meth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672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sh the ani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tion File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imated G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-ins and Standalone P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obe Flash P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ck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P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Media P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 for publishing animated vide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-ROM or D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able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that influence the delivery and distribution of computer anim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ing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back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Step 1: Analyze and Optimize the Ani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6699"/>
                </a:solidFill>
                <a:latin typeface="Arial"/>
              </a:rPr>
              <a:t>Analyze Animations For Potential Problems</a:t>
            </a:r>
            <a:r>
              <a:rPr b="0" i="1" lang="en-US" sz="4000" spc="-1" strike="noStrike">
                <a:solidFill>
                  <a:srgbClr val="666699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potential problems that may occur when downloading and playing a mov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entire movie will be downloaded before it is played, determine which parts of the movie are taking the most time to downlo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movie will be delivered through a streaming connection, look for ways to reduce or control the pauses during download and playb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99"/>
                </a:solidFill>
                <a:latin typeface="Arial"/>
              </a:rPr>
              <a:t>Optimize the An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tions should be optimized in order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the file size for quicker downloa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the video or animation play more smoothly during playb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sufficient quality for vie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deos can be optimized anytime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when they are publish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MC900024323[1]"/>
          <p:cNvPicPr/>
          <p:nvPr/>
        </p:nvPicPr>
        <p:blipFill>
          <a:blip r:embed="rId1"/>
          <a:stretch/>
        </p:blipFill>
        <p:spPr>
          <a:xfrm>
            <a:off x="7010280" y="4343400"/>
            <a:ext cx="148140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1828800"/>
            <a:ext cx="4038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ing animation involves fine-tuning compression sett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e the sounds in the Library by compressing to MP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Image05"/>
          <p:cNvPicPr/>
          <p:nvPr/>
        </p:nvPicPr>
        <p:blipFill>
          <a:blip r:embed="rId1"/>
          <a:stretch/>
        </p:blipFill>
        <p:spPr>
          <a:xfrm>
            <a:off x="4648320" y="2133720"/>
            <a:ext cx="4038480" cy="29494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99"/>
                </a:solidFill>
                <a:latin typeface="Arial"/>
              </a:rPr>
              <a:t>Optimize the Animation 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90920" y="1980720"/>
            <a:ext cx="632448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ffffff"/>
                </a:solidFill>
                <a:latin typeface="Arial"/>
              </a:rPr>
              <a:t>Step 2: Choose an Animation File Typ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99"/>
                </a:solidFill>
                <a:latin typeface="Arial"/>
              </a:rPr>
              <a:t>Animation File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ted 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6699"/>
                </a:solidFill>
                <a:latin typeface="Arial"/>
              </a:rPr>
              <a:t>Animation File 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dio Video Interleave (AV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soft’s animation and video format for computers running the Windows operating syst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es not compress animation as much as other forma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ll not play on all operating systems or in all players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s Interchange Format (GI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nounced “jiff” or “gif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imated GIFs can contain 2-D or 3-D imag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y are used for cartoons, logos, graphics with transparent areas, and anima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F files are popular for the use on the Web because the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90000"/>
              </a:lnSpc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small file siz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90000"/>
              </a:lnSpc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require a special plug-in or player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90000"/>
              </a:lnSpc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supported by most brow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1T19:53:10Z</dcterms:created>
  <dc:creator>tcunning</dc:creator>
  <dc:description/>
  <dc:language>en-US</dc:language>
  <cp:lastModifiedBy>Preferred User</cp:lastModifiedBy>
  <dcterms:modified xsi:type="dcterms:W3CDTF">2011-04-21T00:16:06Z</dcterms:modified>
  <cp:revision>103</cp:revision>
  <dc:subject/>
  <dc:title>7. Publishing an Animation</dc:title>
</cp:coreProperties>
</file>